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B00-F733-4EF1-B2A4-250A287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8D5-53F1-4357-BBEB-10A34DEF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B92-F83D-42DE-AF44-B89BDA7A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AE6-149E-4DB5-8ACD-6F8552E0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C09-A546-4D9A-9760-B80AD926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211-CD55-4C0C-834A-22D8A91D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F42-F098-484A-910C-D267799B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6DF-979E-4C64-900C-4D71C3B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E5C-2870-4607-A6E0-93845FF6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10E-515E-47E2-9200-A090ED7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B07-7050-40D1-B9E8-64FBA4B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F25-00AA-4F10-B994-A465D9F9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FFC6D-FE31-416A-8D3D-10C551D09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intro01_home.jpg"/>
          <p:cNvPicPr/>
          <p:nvPr/>
        </p:nvPicPr>
        <p:blipFill>
          <a:blip r:embed="rId1"/>
          <a:srcRect l="0" t="9441" r="0" b="944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5" descr="intro01_section.jpg"/>
          <p:cNvPicPr/>
          <p:nvPr/>
        </p:nvPicPr>
        <p:blipFill>
          <a:blip r:embed="rId1"/>
          <a:srcRect l="0" t="9441" r="0" b="944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g and drop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5" descr="intro01_drag.jpg"/>
          <p:cNvPicPr/>
          <p:nvPr/>
        </p:nvPicPr>
        <p:blipFill>
          <a:blip r:embed="rId1"/>
          <a:srcRect l="0" t="9441" r="0" b="944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intro01_clickfb.jpg"/>
          <p:cNvPicPr/>
          <p:nvPr/>
        </p:nvPicPr>
        <p:blipFill>
          <a:blip r:embed="rId1"/>
          <a:srcRect l="0" t="9441" r="0" b="944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choic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intro01_mcq.jpg"/>
          <p:cNvPicPr/>
          <p:nvPr/>
        </p:nvPicPr>
        <p:blipFill>
          <a:blip r:embed="rId1"/>
          <a:srcRect l="0" t="9441" r="0" b="944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ing 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9" descr="mark_key_3.jpg"/>
          <p:cNvPicPr/>
          <p:nvPr/>
        </p:nvPicPr>
        <p:blipFill>
          <a:blip r:embed="rId1"/>
          <a:srcRect l="-9324" t="0" r="-932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2:52:11Z</dcterms:created>
  <dc:creator>Rosemary Milburn</dc:creator>
  <dc:description/>
  <dc:language>en-US</dc:language>
  <cp:lastModifiedBy>Rosemary Milburn</cp:lastModifiedBy>
  <dcterms:modified xsi:type="dcterms:W3CDTF">2012-03-23T04:41:42Z</dcterms:modified>
  <cp:revision>4</cp:revision>
  <dc:subject/>
  <dc:title>Home page</dc:title>
</cp:coreProperties>
</file>